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8AE-C9D0-4687-A293-3A73227C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2B8-B7C6-4AFA-AAA0-C98BB38A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967-7742-42A5-A295-21859881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F06-F737-448B-A9F1-E5E2F4F8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23B-29F8-4B24-A18D-ABB65F16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60A-2B71-4D1C-A24F-50BC021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5C4-C3DA-4EAB-9EFF-215C8F8C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A2A-82C6-427C-A833-F200B81A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277-AB5C-4164-8CDA-D48ABC01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4B6-5C03-457E-8BF3-E42985B8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F63-13DE-41DC-9C04-AD3B7C0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8C5-DA27-44F9-9CCA-47F1E0A8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57FC3-DCA1-4AA6-B865-DBE5B12AA3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0160" y="914400"/>
            <a:ext cx="74761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Lyndon B. Johns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Script MT Bold"/>
              </a:rPr>
              <a:t>The Great Society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40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2286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Job Cor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57200"/>
            <a:ext cx="7010280" cy="1434600"/>
          </a:xfrm>
          <a:prstGeom prst="rect">
            <a:avLst/>
          </a:prstGeom>
          <a:noFill/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Great Society Plans to Help the Po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76920" y="32446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Model 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304920"/>
            <a:ext cx="48765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07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bway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Food Sta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07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60" y="29257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508120" cy="3124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43400" y="3200400"/>
            <a:ext cx="4114800" cy="2579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5520" y="2590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Head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0481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ubway"/>
              </a:rPr>
              <a:t>Elementary and Secondary Educa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ubway"/>
              </a:rPr>
              <a:t>Higher Educa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80880"/>
            <a:ext cx="4191120" cy="2104920"/>
          </a:xfrm>
          <a:prstGeom prst="rect">
            <a:avLst/>
          </a:prstGeom>
          <a:noFill/>
          <a:ln w="22320">
            <a:solidFill>
              <a:srgbClr val="00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Great Society Plans to Help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657600" cy="258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943600" y="2057400"/>
            <a:ext cx="23842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19360" y="14349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16320" y="2073240"/>
            <a:ext cx="4306680" cy="2706840"/>
            <a:chOff x="2416320" y="2073240"/>
            <a:chExt cx="4306680" cy="2706840"/>
          </a:xfrm>
        </p:grpSpPr>
        <p:sp>
          <p:nvSpPr>
            <p:cNvPr id="81" name=""/>
            <p:cNvSpPr/>
            <p:nvPr/>
          </p:nvSpPr>
          <p:spPr>
            <a:xfrm>
              <a:off x="2416320" y="2073240"/>
              <a:ext cx="430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16320" y="2073240"/>
              <a:ext cx="4306680" cy="27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505320" y="5181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  <a:ea typeface="Arial"/>
              </a:rPr>
              <a:t>National Endowment for the Arts and Huma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370320" cy="3962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657600" cy="250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3049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Corporation for Public Broadca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2362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Medic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2330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Medic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28600"/>
            <a:ext cx="8076960" cy="1434600"/>
          </a:xfrm>
          <a:prstGeom prst="rect">
            <a:avLst/>
          </a:prstGeom>
          <a:noFill/>
          <a:ln w="2232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Great Society Plans to Improve Health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2857320" cy="250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04812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ubway"/>
              </a:rPr>
              <a:t>Clean Water 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1295280"/>
            <a:ext cx="228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ubway"/>
              </a:rPr>
              <a:t>Truth in Labeling 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14400"/>
            <a:ext cx="4190760" cy="1434600"/>
          </a:xfrm>
          <a:prstGeom prst="rect">
            <a:avLst/>
          </a:prstGeom>
          <a:noFill/>
          <a:ln w="22320">
            <a:solidFill>
              <a:srgbClr val="66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OTHER Great Society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343400" cy="226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226404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971800"/>
            <a:ext cx="7467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lawed discrimination in voting and in public places (movie theaters, hotel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hibits discrimination by employers based on “race, color, religion, sex or national orig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28800" y="609480"/>
            <a:ext cx="5591160" cy="1752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atin typeface="Arial Black"/>
              </a:rPr>
              <a:t>Civil Rights A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76520" y="3733920"/>
            <a:ext cx="612432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Voting Rights A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80880"/>
            <a:ext cx="786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spective voters were required to pass a literacy test and answer questions about the Constitution, a practice that prohibited many blacks from registering to v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elma, Alabama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400" y="304812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981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ed literacy tests for v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t federal examiners to seven Southern states to register black vote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43828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Subway"/>
              </a:rPr>
              <a:t>How do these programs follow the legacy of F. D. Roosevelt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61722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ost-War (WWII) Year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the Suburb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5029200" cy="422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10080" y="4378320"/>
            <a:ext cx="2971800" cy="249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62840" y="92160"/>
            <a:ext cx="29811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609624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8840" y="8222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million Americans still lived in poverty in the early 196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eople were not part of the new prosperous American identity – they were “the invisible po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5151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FK’s “War on Pover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701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7240" y="228600"/>
            <a:ext cx="447372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37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ennedy assassinated on November 22, 19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ce-President Lyndon B. Johnson takes the Oath of Off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BJ describes “the Great Society” in 19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181480" cy="451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37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 will begin to set our course toward the Great Socie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programs seek to ensure “equality of opportunity” for a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24382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07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 poverty by helping poor with jobs and improving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00200" y="6858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646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Goal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87692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 racial in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733920"/>
            <a:ext cx="55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health care to poor/el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20968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ubway"/>
              </a:rPr>
              <a:t>In your opinion, which—if any—of these programs are worth the c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8:53:41Z</dcterms:created>
  <dc:creator>Fred Peronto</dc:creator>
  <dc:description/>
  <dc:language>en-US</dc:language>
  <cp:lastModifiedBy>Dominic Lambek</cp:lastModifiedBy>
  <dcterms:modified xsi:type="dcterms:W3CDTF">2010-05-13T03:35:03Z</dcterms:modified>
  <cp:revision>11</cp:revision>
  <dc:subject/>
  <dc:title>PowerPoint Presentation</dc:title>
</cp:coreProperties>
</file>